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57D0-6AF9-4995-B7EC-E501394C37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13CF-5F8A-4FE0-83AA-5A347B64E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11B-47D7-4EA6-BB72-28C150E7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CFB-0BE2-4FBF-B0E8-7C1D2C2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AC6-9BD7-4F0A-9FAE-D384C29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7E0-79F7-40CC-8860-E8D15F78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58BD-E4DD-47A9-9FF9-B7BBFE24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D9C9-89F5-416C-9182-83C21A5D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BEDD-9216-47EC-AFBE-739072B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5668-6A24-4925-9371-D792859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3D84-7EB0-4D51-8D70-545C11E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294-F117-4C1F-93A1-EECC9FC0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36F5-5703-461B-9F0C-B4DA064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FEC-6E05-48F3-B8E0-8E2E710D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3D03-2C86-4522-BF8B-27720F3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8911-2E6F-4D82-A47E-493C6C5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1B88-BCE3-41E6-A451-90C7910A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4F0-6096-48BA-9234-F811096A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F244-37FB-44A8-AF63-505D4F44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8906-C99E-4C2F-A2BA-DCDBBF7B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C9E1-6653-44C1-8EF9-21122CA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8DAE-5EFB-465A-A11D-393DD1E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9CBA-5D39-42EF-9A0C-59B37B9E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BBE0-EB30-4734-AB2A-38F42262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8B8-357B-49F9-8935-F42E8C9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FE2A-DE4A-411A-9FBD-AF4622C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96C8-3B03-4D64-A567-664C924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5107-888A-469F-81D3-A84B245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250E-8019-4C10-B546-97C57D9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64DF-A3E1-46DD-937A-93BBA9E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7453-56D6-448E-B4AB-AD4AED28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7F48-6245-44C4-A8E8-F8078BCC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F3B1-48D4-4B97-BF94-A9C914D0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C798-567E-4F11-9DB1-61B410B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6858-155E-47BF-A51C-B7645B6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B05-1A40-4C4C-BC61-9AE28A2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6B33-C4AB-4AAC-AA3F-8E343F8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FA5B-8D77-4E85-A460-6F51DA7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C400-4ED1-4F07-AE8F-0389BE96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D6C1-99F5-4981-B567-A3DA021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F6D7-F996-4FDD-BE30-D38C522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01CD-70E4-4D32-AA83-24BBEC8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C31D-4367-4154-A6CF-9B6E032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DE7F-C1FC-45B1-B033-EE451774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B837-A31E-454E-BAF7-0E051DAD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78B7-945E-4ED2-B352-DAE801C0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CAE-DB4A-4E5F-A327-ABAFE97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603E-CC11-487F-AB08-761A050D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72DF-8A2B-415F-A60A-AB73E65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68C1-B368-41B8-8107-E309D43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5CA0-86D3-4C8D-8ABE-8B0FD59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FFDE-BDEE-481E-9D8B-2DC62605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24E4-6A96-40DE-9EC2-CCBC1E7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7562-20DB-40D0-876A-8091F15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6186-222D-452B-86B8-2491E7B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4583-F0D9-490D-B4ED-1BE494D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4F85-6C61-44E3-AFE0-81767610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AC6-60C8-4F85-8636-0FABC0C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E97C-05A1-4316-B69F-EFF6318A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7DE-4A30-4F0F-AA97-98FC257C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E9D-4884-4AB9-B3C7-834F54C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623-1836-47A7-A633-478D27C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E30-319C-42FB-BBD0-321DBB72BCE8}" type="slidenum">
              <a:rPr b="1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9F3-496E-4CA4-86F6-13674D396FEF}" type="slidenum">
              <a:rPr b="1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8290-BFE4-4B5A-B819-994172CD236C}" type="slidenum">
              <a:rPr b="1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B88-F43A-43D3-8981-1F82E9EE7DF2}" type="slidenum">
              <a:rPr b="1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F2E-5B15-45FA-AB54-B823ED15A013}" type="slidenum">
              <a:rPr b="1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1403280" y="-720"/>
            <a:ext cx="2471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900000" y="271440"/>
            <a:ext cx="58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23232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Заголовок 3"/>
          <p:cNvSpPr/>
          <p:nvPr/>
        </p:nvSpPr>
        <p:spPr>
          <a:xfrm>
            <a:off x="404640" y="495360"/>
            <a:ext cx="6081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1146240" y="334800"/>
            <a:ext cx="7270560" cy="590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-73080" y="0"/>
            <a:ext cx="9217080" cy="69246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2124000" y="630360"/>
            <a:ext cx="5040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Схема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маршрута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учебного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занятия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Театр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начинается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с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детства</a:t>
            </a:r>
            <a:r>
              <a:rPr b="1" lang="ru-RU" sz="2000" spc="-1" strike="noStrike">
                <a:solidFill>
                  <a:srgbClr val="c00000"/>
                </a:solidFill>
                <a:latin typeface="Berlin Sans FB Demi"/>
                <a:ea typeface="Calibri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" descr="C:\Users\Admin\Desktop\Театрализация_ПРОГУЛ\2_ PROГУЛ_Театр начинается с детства\Metod\111111111.jpg"/>
          <p:cNvPicPr/>
          <p:nvPr/>
        </p:nvPicPr>
        <p:blipFill>
          <a:blip r:embed="rId3"/>
          <a:stretch/>
        </p:blipFill>
        <p:spPr>
          <a:xfrm>
            <a:off x="182520" y="1374840"/>
            <a:ext cx="5218200" cy="2481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Admin\Desktop\Театрализация_ПРОГУЛ\2_ PROГУЛ_Театр начинается с детства\Metod\22222222222222.jpg"/>
          <p:cNvPicPr/>
          <p:nvPr/>
        </p:nvPicPr>
        <p:blipFill>
          <a:blip r:embed="rId4"/>
          <a:stretch/>
        </p:blipFill>
        <p:spPr>
          <a:xfrm>
            <a:off x="0" y="3933720"/>
            <a:ext cx="6005520" cy="2801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5400720" y="1496880"/>
            <a:ext cx="356400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Школа искусств города Выкса – 1 этаж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1 – музыкальный класс для занятий по вокалу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5"/>
          <a:stretch/>
        </p:blipFill>
        <p:spPr>
          <a:xfrm>
            <a:off x="4761000" y="2708280"/>
            <a:ext cx="506160" cy="68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6035760" y="3855960"/>
            <a:ext cx="303696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Школа искусств города Выкса – 2 этаж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2– зал для хореограф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3 – концертный за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6"/>
          <a:stretch/>
        </p:blipFill>
        <p:spPr>
          <a:xfrm>
            <a:off x="1100160" y="544500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7"/>
          <a:stretch/>
        </p:blipFill>
        <p:spPr>
          <a:xfrm>
            <a:off x="2411280" y="5672160"/>
            <a:ext cx="928800" cy="73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7:39:01Z</dcterms:created>
  <dc:creator>user</dc:creator>
  <dc:description/>
  <dc:language>en-US</dc:language>
  <cp:lastModifiedBy>Admin</cp:lastModifiedBy>
  <dcterms:modified xsi:type="dcterms:W3CDTF">2024-04-03T19:29:04Z</dcterms:modified>
  <cp:revision>1540</cp:revision>
  <dc:subject/>
  <dc:title>Презентация PowerPoint</dc:title>
</cp:coreProperties>
</file>